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F06-41EF-433F-B56E-7E533DF8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352-5A7E-4E6D-B4B7-1ED4A0BB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1A8A-0701-4F7F-869D-482F6137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AA6B-3CF0-4D77-A184-F0AE4227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A066B-8D54-4911-8FCB-43539E1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814D4-6493-416D-B7BB-41F3405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FD08D-0812-4E2F-826C-13C6935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70B15-4896-4E22-846E-8BB8AD2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3056F-DFA2-4EB6-B254-F5DD489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1E92F-A341-4D3F-9BA2-5A71B743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19D0-496B-450A-8136-D54687D4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E3C68-3AEF-4B3C-A01A-C4BA1AC3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C09-5728-4F3B-A4E7-C866C8C0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253B2-535C-446E-BC36-8E6D3A90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4A54B-0944-4F1B-9BF1-69F7D96C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FDC20-AAD7-4ECF-A22F-AA19AD81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64559-0C97-4905-857C-AC2D4E05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B7F79-090F-4C8D-B913-17C18DD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75943-15FD-42AB-8680-7432FB4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0313D-893C-4873-9630-A48FF71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AC7A7-75F4-453E-89AB-E8E2E35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36016-DB82-4C12-8D77-8778AD60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EA1A0-7D50-49EF-899E-EA12DB9B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9BC-2534-44CF-B1D3-DEE3A80E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1E724-6067-4A54-96E2-079DAC73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7AE58-8B25-4C35-BE1F-291A454C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7668D-40A0-4DA8-BBCE-A32B7EC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8F24B-9F79-46BD-9B37-68A9CDE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24AA-6CF5-4E41-B571-B925B758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3CA12-18DD-49DD-B3F6-C7EE917E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7C50-3061-4462-8B8E-633C0470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BE91-8A79-494C-BF21-ED553BE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83D25-310F-4AD6-A968-A8407F4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A5137-BED7-4132-A175-12F07767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7B0B-81FC-4D47-AC0B-13B8B8C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2292A-AE85-4DF2-8B6E-E096D4A9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53D71-57D1-46F0-9F2F-6444AD2B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FE8B4-AC6C-46CC-97E2-CCC846FB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FC6D9-8B82-484E-B467-2FA12D9E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5374B-B3B3-412F-8FB9-49F1E01A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C029C-527C-4AEC-AF53-2035C8D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858FB-14D6-4454-A621-57F8A43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F02E4-86BC-4B40-ACA1-B422A5E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CBA03-8E18-4DDA-A206-9EC29860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B6619-105D-43F4-8E06-AEC0407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1161-B27B-49CC-ACD3-DA07247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C062B-EAD8-4419-AFA3-7E00BF99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ED69D-4BEF-44DD-80B5-72E26D3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CC5E2-849C-4E76-9CA5-4A4AEF61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999FC-DC93-448A-AF06-8EA4914B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4C6F8-C513-4AA2-A626-BF550C46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4C439-8883-47D2-91A9-8018D8A6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CE156-A1CD-4B6D-8269-26D9E6E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FACEA-F5A8-437E-A743-B9DFBDC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6C92C-F5F1-4A36-81C6-7484C6FF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6286A-F67B-4D07-809B-19111AC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02C1-904F-4E0A-BAD7-2930F38C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6A0E1-3D4D-4879-ABE4-6140E8E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B6AAE-E51C-4719-868D-771995D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91D6B-CBD9-428E-9D0C-C74B805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EF9FA-5645-4D3A-A49A-412F9AE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1536B-B445-4F64-BD2C-883EE3A7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4007F-A26A-4DC1-849F-D19706C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E7773-A76D-4E92-ACCA-F33A1EF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9356-982C-4034-AAB8-20AF5E9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4897-70A1-4CA5-9670-0F589830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F1FA-97B6-4B48-A106-CBFD5A97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94E9-4924-4372-A274-BCE757D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BD5-9266-49B9-9459-08B36CA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926-E640-4075-AA41-2A3B1CE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51D5-DC89-4A05-A19A-229AD55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425F-BDB4-4BCB-8A28-F2444D9F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FF3B-E14B-4AC1-B198-AB8BC87C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4E2B-37EE-4916-B91E-D518EDBD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6847-93D0-4A3A-942D-725EC5F3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581E-01F3-4A98-9721-E1BC09E5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9178-E9E1-4EAC-A593-B738C469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98A5-223C-43A3-934E-F45025A8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423D-F258-4830-9E8D-02729687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153-62F2-48AC-A2EA-A848491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F5DF-D635-46F6-B29B-A78AF609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9DB3-0B90-441A-B942-4E4A69E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ECA1-9DA7-488E-95A0-9523B7DA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13C0-22B9-41B5-9253-415342AD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1ACD-7BC0-4A37-999E-105B21F8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2FD2-E821-473A-9A05-C51AC756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8EFC-F1F6-4A8D-919E-6AF8CF99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BCD8-50AC-42C3-8F37-EDCED8A8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7C20-1164-4675-BC97-55B5D1FD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7361-C83B-4CC1-8F25-5DBB2912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F91-EB7F-4FF5-8F93-BC22D12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E538-8C96-43F4-8B75-F1BC0457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A8FE-B76A-4572-B9F0-0F349B74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3802-B233-47E6-9374-8CC38FD3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6032-27B0-4C78-836D-DCA8A73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8827-8ACE-44B6-8051-0C72289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D97F-DE0E-455F-835C-F66A9D2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1724-B93E-416F-B816-5B233FD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EBC8C-4AC1-45DF-8729-4CEE4A5F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FF20-1464-4DD6-87DC-42D50EC2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6B60-AB00-40B9-93A0-EEA600A0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D8B-D689-489F-A80A-C7A876FE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2514-E2A4-436B-BB7B-4BADEDEB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F8A5-857D-4EF2-BA3F-54E8F0B3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0761-1269-4DAF-918C-6E53B556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BF70-81FC-46F2-8EA3-7E10E017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8D10-EA4A-40A8-BABE-FF36DB1E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94D4C-F3A2-4CF7-93E4-394CB4C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DD3F-35AC-4239-B532-C9E798D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5738-14FF-453F-8D19-45568878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7AE19-65B2-44BB-A3DA-D2301AF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F8E82-5870-4798-991E-E36A95E1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11A-4751-4ABC-A579-B79C458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4E1E-02AF-4BB2-A1B6-0E185C5C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A5DE7-DC8C-407A-8E73-E9E7F058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79D5-5014-4EEB-81C6-EC7398CA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B1E5-EADF-4F92-8115-4DCDAB9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F68E8-81A1-4251-AD8C-05989080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22AD-7751-44B0-851D-D3831883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54F5-9261-49A9-A9F4-4E283D2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F68F-4232-40A1-BF06-E634D80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1725-B7E4-4F4A-B804-6549F07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2723E-0B8E-4D2D-950E-CBAF72B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08C-0B5B-459E-9CAD-201B975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14D70-795D-4C14-941C-FE68486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182E8-7B81-497B-B643-85BBFFA5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B562-F267-4A1A-819C-C82D2F11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CEC09-FEF5-4376-9F43-E8F84F3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2235-312D-42C9-9568-A7071D6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41527-A9A0-4120-A86B-FE9D93F8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FE23A-8479-426C-A603-2E0807B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D522-3BE1-41F3-B1D7-4FC04116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0081-DDAF-407E-92BF-7A89785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DB16-D985-4D96-BB46-D47DA3F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D8A-5FF4-46C3-98BE-8D898D2B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C68BF-9132-46C1-9819-2CC6120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8D05D-CB86-4A4D-A47E-EEF1F46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D31CB-C39A-4329-A009-D218E1CD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B984-CFA4-4C0F-94BC-0EBAE313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3ED0-77A6-49F5-93C3-D0178A24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0B24-7352-4D99-9971-4F008D3B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E056-7548-4698-B420-9BB3E9B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A0A77-A38A-4B80-B418-7CD0D10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E9065-F769-460D-AB0F-7802FBC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0D8E-7B6E-4A85-9965-9F67593B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1F4-AD6D-4B4F-A90B-EBD5BD6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41831-2E7E-41E9-9363-D189D70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E25C-F7C9-4176-BE28-269B9BF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F3603-D773-4AE8-80FB-69482EB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501A-0BDE-4194-A706-8169875C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21744-D1B3-4FA3-88B7-3F697C5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C931F-F50E-4210-AB51-942CFBE4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4CC3-9E15-4F15-B1AB-1C9EDB20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20DDF-E937-48D2-B3F2-55F864AA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52EEF-BD3C-4583-B133-C0A4464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F5BBD-B19E-4C81-A182-96FD155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96CC-47F5-4161-B0B7-8267648227E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AC83-18B8-42A6-AE5E-796F145415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F207-E77E-479E-81E2-FB1A25E92B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FB77-FD88-4833-A749-F8F3304DD2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637-7D5E-42C9-85CA-681F4D82975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5C86-6CB7-405A-AAA1-FDEA1DFF5F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EB53-192D-43B5-8675-8CB4282DF4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BE5D-6288-43BA-ACF8-FF9599277F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7CB-F5D0-4562-90BC-3E84DF7EF3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E91-BF4A-477C-B8D4-DB2C882A87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E4FE-A156-4ED7-AE4C-08B04044EB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D33-3B1C-4181-A60D-71CFD49837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A709-DC73-4083-A140-9698B8D1E2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ethel</cp:lastModifiedBy>
  <dcterms:modified xsi:type="dcterms:W3CDTF">2015-04-24T12:35:03Z</dcterms:modified>
  <cp:revision>81</cp:revision>
  <dc:subject/>
  <dc:title>Presentación de PowerPoint</dc:title>
</cp:coreProperties>
</file>